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2C3FC-DE9E-4712-9922-62926E9A0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5F61A-6206-46C5-9D2A-F6750917C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8ED9E-BF04-4176-9596-164D3A83D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9A658-6813-48E4-ABF1-8C07C4E81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C99B15-7CEC-4105-ADB7-B4F7B153D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E2102-D487-444E-B40C-18102001E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A930B-B807-429E-AF33-3A943E45B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630AC-D99A-4C0E-9F10-D2AE80F61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13CA0-1E0E-43C0-AD3B-5F7E1B235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867EF-19A1-4D6D-88D1-19923D240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AFF7C-4EB8-4B62-B472-EFD23C7FA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9F360-1DE6-4194-BDE2-F2D3DF0F5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D8D2B-9CA6-4C13-B072-FE5F10658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7944E-22CA-49A0-AC6F-5F8F77FED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EE30F-A7A2-49B4-8E7E-06E966163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3837F-4F49-4B31-9FDE-7FF93B2804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FDF0D-7FAC-42DE-8646-165059B89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FB1330-0D1B-45FE-9C8F-87D253E83A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E8850-8910-4F48-8E5E-68A60923BA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1C08B-4B85-4816-81FC-9B723D0C6B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AF32EB-8CE3-4CD9-A406-5AA4AABEA6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885083-CC85-4EE4-B2AA-999A073498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414F1-6967-4324-AB0F-2C0360378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3369E1-D264-4137-B99C-70DCE67BA8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27CFF-CB67-462C-BED8-3164F307D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A5306F-469B-4CF0-ACCE-CB6A76EC5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7EAAA-EC85-462A-B801-C77152C01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1F1E1E-F96F-4566-AC58-2EB86B69D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F00067-3EAC-4BEF-AAC5-55764E3A75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98DB8F-99B4-4D35-92B4-2B15DC9052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8692C1-3837-49DF-9F4D-D8F31C2D2D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47DF9C-B49E-4633-8D10-8CF7388C4D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6B085E-E80F-44E2-9DA7-489134AF13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581FC-3B47-4051-AC79-4C2D48D12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7154D7-C0F7-47AE-B2E4-FB3E39B356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1A26AE-7DAB-4B99-9F29-04FF077C86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5335DB-BA85-4B79-AF65-FB819BCBE1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2365E5-27EB-42D6-924A-9C3F54B257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599A8-8F91-462A-B020-CB20A01983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260646-16C0-48DF-8D04-1518C904A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1607E8-4900-4F11-B278-4BD1CF0D87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70A423-2F3B-40F1-8263-389F923330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F66B95-E428-4417-B603-54B3559E45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003F31-5DFA-42E4-B6EB-0CA0A3EE68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76B2C-7CD8-4021-A02B-E3A345F11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DE3D1D-AEA3-4107-ACAE-41B9C78EC1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A60220-0224-44F5-886C-EE741A5832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8BDE1E-F50B-4F45-875E-DD706C73E7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5D4A2D-89CF-4241-8E1D-B1650B50C1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EA334A-382C-4164-A3A3-7320A4C1F4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0FACF7-F384-4D64-A055-5091109F0A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918AED-758A-4568-9472-04CCDFDE2D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86FE0B-2280-4A00-BF63-3BA9BA6E8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C434E4-0AFF-4C01-9540-28BF08ACF5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B02F91-8E39-4481-AF75-CE0DBF8905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445C3-A2CE-484E-9CE6-B80778BB7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4C327A-4DF6-4A10-B9E5-EF192F1D4C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C22314-C0EC-4685-92E5-CA5666AD66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B14FC0-6ECD-45C8-8373-D78EA99DB9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BA6BD4-F19E-4AD7-855B-921970A25B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E6B358-E623-468B-88DA-031F77ED1B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5694CA-3EF1-456A-A745-9BF9DFE29A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B7067B-6C12-4A84-A30E-086543079F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05B200-E64E-4DE6-B00D-1C505B036F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021CA-A26B-46D4-838E-AE7B3E3AA4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6ED522-B033-422F-85C3-35F4350F9D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C8D30-2D2B-4330-AC77-4FB792E44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972311-D61E-4554-A1DE-1129170DA8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26B62E-5110-4F58-83F7-7D42CFB1C7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4F316C-48E4-493A-8203-E1EB34427E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D1C96A-B482-4020-A45D-EB56F059C4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77D6AF-2F4B-4E62-8538-06AF4216C8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1F551B-6E92-4FD0-A681-63B20530C4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B7404C-7AE2-485E-BAB8-7723C546FE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CD8548-FB14-49BD-82B9-8BF208B435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28778B-7462-4949-8493-211F1E3ED3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4FE8FB-1C21-458D-B7AD-CC1EC74E6D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CBD5C-3DD6-4B7B-AE7F-D3676AF19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480D08-2C9E-4B66-A8D0-037C04B78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B5B89C-806E-46D7-86F0-8DC57A813D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0DC29B-A411-4286-A23B-AB67D460D9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67AEAF-E015-4883-8A12-9114719DE0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4566D8-A6F7-4D9F-92FB-D811AF3C4B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B414B-C404-4C04-B233-FDF24B0ED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EDAE-CC1E-43EB-BAB4-E269345E89D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40F9-AC8A-4EF9-902D-CD07CC6D545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24C6E-2C1F-46CC-8CDB-F3C11D7C348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D695-CC4B-44C1-84D5-6B99A4B088A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A9D2-B0D6-4C7C-A0B0-53C02869235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A86A-C078-4EEA-B036-14B5D3BAD7C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E1E3-94BE-4CB7-B675-E26E2698DAD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40.statcan.ca/l01/cst01/hlth66a-eng.htm" TargetMode="External"/><Relationship Id="rId2" Type="http://schemas.openxmlformats.org/officeDocument/2006/relationships/hyperlink" Target="http://www40.statcan.gc.ca/l01/cst01/labor20a-eng.htm?sdi=unemployment"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iTDhoAvvtac"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Is there a correlation?  </a:t>
            </a:r>
            <a:endParaRPr b="0" lang="en-US" sz="2000" spc="-1" strike="noStrike">
              <a:solidFill>
                <a:srgbClr val="ffffff"/>
              </a:solidFill>
              <a:latin typeface="Corbel"/>
            </a:endParaRPr>
          </a:p>
        </p:txBody>
      </p:sp>
      <p:sp>
        <p:nvSpPr>
          <p:cNvPr id="370" name="TextBox 3"/>
          <p:cNvSpPr/>
          <p:nvPr/>
        </p:nvSpPr>
        <p:spPr>
          <a:xfrm>
            <a:off x="5486400" y="396252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John Nguyen</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One-Variable Analysis: Suicide</a:t>
            </a:r>
            <a:endParaRPr b="0" lang="en-US" sz="3200" spc="-1" strike="noStrike">
              <a:solidFill>
                <a:srgbClr val="c1eeff"/>
              </a:solidFill>
              <a:latin typeface="Consolas"/>
            </a:endParaRPr>
          </a:p>
        </p:txBody>
      </p:sp>
      <p:pic>
        <p:nvPicPr>
          <p:cNvPr id="397" name="Content Placeholder 3" descr=""/>
          <p:cNvPicPr/>
          <p:nvPr/>
        </p:nvPicPr>
        <p:blipFill>
          <a:blip r:embed="rId1"/>
          <a:stretch/>
        </p:blipFill>
        <p:spPr>
          <a:xfrm>
            <a:off x="907920" y="1517760"/>
            <a:ext cx="7400880" cy="4584600"/>
          </a:xfrm>
          <a:prstGeom prst="rect">
            <a:avLst/>
          </a:prstGeom>
          <a:ln w="0">
            <a:noFill/>
          </a:ln>
        </p:spPr>
      </p:pic>
      <p:sp>
        <p:nvSpPr>
          <p:cNvPr id="398" name="TextBox 4"/>
          <p:cNvSpPr/>
          <p:nvPr/>
        </p:nvSpPr>
        <p:spPr>
          <a:xfrm>
            <a:off x="1371600" y="59436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Mean – 294.6</a:t>
            </a:r>
            <a:endParaRPr b="0" lang="en-US" sz="1800" spc="-1" strike="noStrike">
              <a:solidFill>
                <a:srgbClr val="ffffff"/>
              </a:solidFill>
              <a:latin typeface="Corbel"/>
            </a:endParaRPr>
          </a:p>
        </p:txBody>
      </p:sp>
      <p:sp>
        <p:nvSpPr>
          <p:cNvPr id="399" name="TextBox 5"/>
          <p:cNvSpPr/>
          <p:nvPr/>
        </p:nvSpPr>
        <p:spPr>
          <a:xfrm>
            <a:off x="5562720" y="594360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tandard Deviation – 109.1</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eeff"/>
                </a:solidFill>
                <a:latin typeface="Consolas"/>
              </a:rPr>
              <a:t>Two-Variable Analysis: Unemployment vs Suicide</a:t>
            </a:r>
            <a:endParaRPr b="0" lang="en-US" sz="2400" spc="-1" strike="noStrike">
              <a:solidFill>
                <a:srgbClr val="c1eeff"/>
              </a:solidFill>
              <a:latin typeface="Consolas"/>
            </a:endParaRPr>
          </a:p>
        </p:txBody>
      </p:sp>
      <p:pic>
        <p:nvPicPr>
          <p:cNvPr id="401" name="Content Placeholder 3" descr=""/>
          <p:cNvPicPr/>
          <p:nvPr/>
        </p:nvPicPr>
        <p:blipFill>
          <a:blip r:embed="rId1"/>
          <a:stretch/>
        </p:blipFill>
        <p:spPr>
          <a:xfrm>
            <a:off x="835200" y="1749600"/>
            <a:ext cx="7778520" cy="457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eeff"/>
                </a:solidFill>
                <a:latin typeface="Consolas"/>
              </a:rPr>
              <a:t>Hidden Variables</a:t>
            </a:r>
            <a:endParaRPr b="0" lang="en-US" sz="48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Optimists</a:t>
            </a:r>
            <a:endParaRPr b="0" lang="en-US" sz="4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Retirement</a:t>
            </a:r>
            <a:endParaRPr b="0" lang="en-US" sz="4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Environment</a:t>
            </a:r>
            <a:endParaRPr b="0" lang="en-US" sz="4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Age groups</a:t>
            </a:r>
            <a:endParaRPr b="0" lang="en-US" sz="4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pic>
        <p:nvPicPr>
          <p:cNvPr id="404" name="Picture 2" descr=""/>
          <p:cNvPicPr/>
          <p:nvPr/>
        </p:nvPicPr>
        <p:blipFill>
          <a:blip r:embed="rId1"/>
          <a:stretch/>
        </p:blipFill>
        <p:spPr>
          <a:xfrm>
            <a:off x="6019920" y="2133720"/>
            <a:ext cx="1761840" cy="260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clusion</a:t>
            </a:r>
            <a:endParaRPr b="0" lang="en-US" sz="4000" spc="-1" strike="noStrike">
              <a:solidFill>
                <a:srgbClr val="c1eeff"/>
              </a:solidFill>
              <a:latin typeface="Consolas"/>
            </a:endParaRPr>
          </a:p>
        </p:txBody>
      </p:sp>
      <p:sp>
        <p:nvSpPr>
          <p:cNvPr id="406" name="TextBox 3"/>
          <p:cNvSpPr/>
          <p:nvPr/>
        </p:nvSpPr>
        <p:spPr>
          <a:xfrm>
            <a:off x="914400" y="1295280"/>
            <a:ext cx="41148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us, although there may still be the possibility that unemployment does play a role in determining the suicide rate, the data shows that it is not relevant enough or too skewed to have any direct correlation. There are too many outliers and hidden variables that may have caused an effect on this. The data is still somewhat correlated and that means, yes, there’s still that idea of stress and mental breakdowns from being unemployed will cause suicides amongst the masses.</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7" name="Picture 2" descr=""/>
          <p:cNvPicPr/>
          <p:nvPr/>
        </p:nvPicPr>
        <p:blipFill>
          <a:blip r:embed="rId1"/>
          <a:stretch/>
        </p:blipFill>
        <p:spPr>
          <a:xfrm>
            <a:off x="5257800" y="1295280"/>
            <a:ext cx="3571920" cy="476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orks cited</a:t>
            </a: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uicides and Suicide rate, by sex and by age group. (2010, July 19). In </a:t>
            </a:r>
            <a:r>
              <a:rPr b="0" i="1" lang="en-US" sz="2800" spc="-1" strike="noStrike">
                <a:solidFill>
                  <a:srgbClr val="ffffff"/>
                </a:solidFill>
                <a:latin typeface="Corbel"/>
              </a:rPr>
              <a:t>Stats Canada</a:t>
            </a:r>
            <a:r>
              <a:rPr b="0" lang="en-US" sz="2800" spc="-1" strike="noStrike">
                <a:solidFill>
                  <a:srgbClr val="ffffff"/>
                </a:solidFill>
                <a:latin typeface="Corbel"/>
              </a:rPr>
              <a:t>. Retrieved November 4, 2010, from </a:t>
            </a:r>
            <a:r>
              <a:rPr b="0" lang="en-US" sz="2800" spc="-1" strike="noStrike" u="sng">
                <a:solidFill>
                  <a:srgbClr val="eb8803"/>
                </a:solidFill>
                <a:uFillTx/>
                <a:latin typeface="Corbel"/>
                <a:hlinkClick r:id="rId1"/>
              </a:rPr>
              <a:t>http://www40.statcan.ca/l01/cst01/hlth66a-eng.htm</a:t>
            </a:r>
            <a:endParaRPr b="0" lang="en-US" sz="28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endParaRPr b="0" lang="en-US" sz="28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abour force characteristics by age and sex. (2010, January 19). In </a:t>
            </a:r>
            <a:r>
              <a:rPr b="0" i="1" lang="en-US" sz="2800" spc="-1" strike="noStrike">
                <a:solidFill>
                  <a:srgbClr val="ffffff"/>
                </a:solidFill>
                <a:latin typeface="Corbel"/>
              </a:rPr>
              <a:t>Stats Canada</a:t>
            </a:r>
            <a:r>
              <a:rPr b="0" lang="en-US" sz="2800" spc="-1" strike="noStrike">
                <a:solidFill>
                  <a:srgbClr val="ffffff"/>
                </a:solidFill>
                <a:latin typeface="Corbel"/>
              </a:rPr>
              <a:t>. Retrieved November 4, 2010, from </a:t>
            </a:r>
            <a:r>
              <a:rPr b="0" lang="en-US" sz="2800" spc="-1" strike="noStrike" u="sng">
                <a:solidFill>
                  <a:srgbClr val="eb8803"/>
                </a:solidFill>
                <a:uFillTx/>
                <a:latin typeface="Corbel"/>
                <a:hlinkClick r:id="rId2"/>
              </a:rPr>
              <a:t>http://www40.statcan.gc.ca/l01/cst01/labor20a-eng.htm?sdi=unemployment</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y did I choose this?</a:t>
            </a:r>
            <a:endParaRPr b="0" lang="en-US" sz="4000" spc="-1" strike="noStrike">
              <a:solidFill>
                <a:srgbClr val="c1eeff"/>
              </a:solidFill>
              <a:latin typeface="Consolas"/>
            </a:endParaRPr>
          </a:p>
        </p:txBody>
      </p:sp>
      <p:sp>
        <p:nvSpPr>
          <p:cNvPr id="372" name=""/>
          <p:cNvSpPr txBox="1"/>
          <p:nvPr/>
        </p:nvSpPr>
        <p:spPr>
          <a:xfrm>
            <a:off x="4419360" y="1676520"/>
            <a:ext cx="4343400" cy="4680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rest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dea of death</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anted simple data sour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dea of stress leading to suicide</a:t>
            </a:r>
            <a:endParaRPr b="0" lang="en-US" sz="3000" spc="-1" strike="noStrike">
              <a:solidFill>
                <a:srgbClr val="ffffff"/>
              </a:solidFill>
              <a:latin typeface="Corbel"/>
            </a:endParaRPr>
          </a:p>
        </p:txBody>
      </p:sp>
      <p:pic>
        <p:nvPicPr>
          <p:cNvPr id="373" name="Picture 2" descr=""/>
          <p:cNvPicPr/>
          <p:nvPr/>
        </p:nvPicPr>
        <p:blipFill>
          <a:blip r:embed="rId1"/>
          <a:stretch/>
        </p:blipFill>
        <p:spPr>
          <a:xfrm>
            <a:off x="1600200" y="1905120"/>
            <a:ext cx="1886040" cy="24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Question</a:t>
            </a:r>
            <a:endParaRPr b="0" lang="en-US" sz="4000" spc="-1" strike="noStrike">
              <a:solidFill>
                <a:srgbClr val="c1eeff"/>
              </a:solidFill>
              <a:latin typeface="Consolas"/>
            </a:endParaRPr>
          </a:p>
        </p:txBody>
      </p:sp>
      <p:sp>
        <p:nvSpPr>
          <p:cNvPr id="375" name=""/>
          <p:cNvSpPr txBox="1"/>
          <p:nvPr/>
        </p:nvSpPr>
        <p:spPr>
          <a:xfrm>
            <a:off x="914400" y="1784160"/>
            <a:ext cx="5029200" cy="4539960"/>
          </a:xfrm>
          <a:prstGeom prst="rect">
            <a:avLst/>
          </a:prstGeom>
          <a:noFill/>
          <a:ln w="0">
            <a:noFill/>
          </a:ln>
        </p:spPr>
        <p:txBody>
          <a:bodyPr lIns="90000" rIns="90000" tIns="46800" bIns="46800"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oes the unemployment rate of Canada affect its suicide rate? Are they directly correlated?</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unemployment rate would represent the independent variable.</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suicide rate would be the dependent variable.</a:t>
            </a:r>
            <a:endParaRPr b="0" lang="en-US" sz="3000" spc="-1" strike="noStrike">
              <a:solidFill>
                <a:srgbClr val="ffffff"/>
              </a:solidFill>
              <a:latin typeface="Corbel"/>
            </a:endParaRPr>
          </a:p>
        </p:txBody>
      </p:sp>
      <p:pic>
        <p:nvPicPr>
          <p:cNvPr id="376" name="Picture 2" descr=""/>
          <p:cNvPicPr/>
          <p:nvPr/>
        </p:nvPicPr>
        <p:blipFill>
          <a:blip r:embed="rId1"/>
          <a:stretch/>
        </p:blipFill>
        <p:spPr>
          <a:xfrm>
            <a:off x="6477120" y="380880"/>
            <a:ext cx="214308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ypothesis</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orrelated because unemployment leads to stress which leads to suicid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obably strong correlated positiv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9" name="Picture 3" descr=""/>
          <p:cNvPicPr/>
          <p:nvPr/>
        </p:nvPicPr>
        <p:blipFill>
          <a:blip r:embed="rId1"/>
          <a:stretch/>
        </p:blipFill>
        <p:spPr>
          <a:xfrm>
            <a:off x="1143000" y="3886200"/>
            <a:ext cx="2219400" cy="2066760"/>
          </a:xfrm>
          <a:prstGeom prst="rect">
            <a:avLst/>
          </a:prstGeom>
          <a:ln w="0">
            <a:noFill/>
          </a:ln>
        </p:spPr>
      </p:pic>
      <p:pic>
        <p:nvPicPr>
          <p:cNvPr id="380" name="Picture 4" descr=""/>
          <p:cNvPicPr/>
          <p:nvPr/>
        </p:nvPicPr>
        <p:blipFill>
          <a:blip r:embed="rId2"/>
          <a:stretch/>
        </p:blipFill>
        <p:spPr>
          <a:xfrm>
            <a:off x="3352680" y="4343400"/>
            <a:ext cx="2068560" cy="838080"/>
          </a:xfrm>
          <a:prstGeom prst="rect">
            <a:avLst/>
          </a:prstGeom>
          <a:ln w="0">
            <a:noFill/>
          </a:ln>
        </p:spPr>
      </p:pic>
      <p:pic>
        <p:nvPicPr>
          <p:cNvPr id="381" name="Picture 5" descr=""/>
          <p:cNvPicPr/>
          <p:nvPr/>
        </p:nvPicPr>
        <p:blipFill>
          <a:blip r:embed="rId3"/>
          <a:stretch/>
        </p:blipFill>
        <p:spPr>
          <a:xfrm>
            <a:off x="5638680" y="3505320"/>
            <a:ext cx="3521160" cy="281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aw Data</a:t>
            </a:r>
            <a:endParaRPr b="0" lang="en-US" sz="4000" spc="-1" strike="noStrike">
              <a:solidFill>
                <a:srgbClr val="c1eeff"/>
              </a:solidFill>
              <a:latin typeface="Consolas"/>
            </a:endParaRPr>
          </a:p>
        </p:txBody>
      </p:sp>
      <p:pic>
        <p:nvPicPr>
          <p:cNvPr id="383" name="Picture 2" descr=""/>
          <p:cNvPicPr/>
          <p:nvPr/>
        </p:nvPicPr>
        <p:blipFill>
          <a:blip r:embed="rId1"/>
          <a:stretch/>
        </p:blipFill>
        <p:spPr>
          <a:xfrm>
            <a:off x="914400" y="1600200"/>
            <a:ext cx="2806560" cy="4572000"/>
          </a:xfrm>
          <a:prstGeom prst="rect">
            <a:avLst/>
          </a:prstGeom>
          <a:ln w="0">
            <a:noFill/>
          </a:ln>
        </p:spPr>
      </p:pic>
      <p:pic>
        <p:nvPicPr>
          <p:cNvPr id="384" name="Picture 3" descr=""/>
          <p:cNvPicPr/>
          <p:nvPr/>
        </p:nvPicPr>
        <p:blipFill>
          <a:blip r:embed="rId2"/>
          <a:stretch/>
        </p:blipFill>
        <p:spPr>
          <a:xfrm>
            <a:off x="4343400" y="2133720"/>
            <a:ext cx="4457880" cy="36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ackground Information</a:t>
            </a:r>
            <a:endParaRPr b="0" lang="en-US" sz="4000" spc="-1" strike="noStrike">
              <a:solidFill>
                <a:srgbClr val="c1eeff"/>
              </a:solidFill>
              <a:latin typeface="Consolas"/>
            </a:endParaRPr>
          </a:p>
        </p:txBody>
      </p:sp>
      <p:sp>
        <p:nvSpPr>
          <p:cNvPr id="386" name=""/>
          <p:cNvSpPr txBox="1"/>
          <p:nvPr/>
        </p:nvSpPr>
        <p:spPr>
          <a:xfrm>
            <a:off x="914400" y="1784520"/>
            <a:ext cx="4495680" cy="4572000"/>
          </a:xfrm>
          <a:prstGeom prst="rect">
            <a:avLst/>
          </a:prstGeom>
          <a:noFill/>
          <a:ln w="0">
            <a:noFill/>
          </a:ln>
        </p:spPr>
        <p:txBody>
          <a:bodyPr lIns="90000" rIns="90000" tIns="46800" bIns="46800" anchor="t">
            <a:normAutofit fontScale="92000"/>
          </a:bodyPr>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ill include only Canada</a:t>
            </a:r>
            <a:endParaRPr b="0" lang="en-US" sz="30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tal unemployed in 2007 is 1.5 million people</a:t>
            </a:r>
            <a:endParaRPr b="0" lang="en-US" sz="30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uicides for 2007 about 3700 people</a:t>
            </a:r>
            <a:endParaRPr b="0" lang="en-US" sz="30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rying to find correlation between the two</a:t>
            </a:r>
            <a:endParaRPr b="0" lang="en-US" sz="3000" spc="-1" strike="noStrike">
              <a:solidFill>
                <a:srgbClr val="ffffff"/>
              </a:solidFill>
              <a:latin typeface="Corbel"/>
            </a:endParaRPr>
          </a:p>
        </p:txBody>
      </p:sp>
      <p:pic>
        <p:nvPicPr>
          <p:cNvPr id="387" name="Picture 2" descr=""/>
          <p:cNvPicPr/>
          <p:nvPr/>
        </p:nvPicPr>
        <p:blipFill>
          <a:blip r:embed="rId1"/>
          <a:stretch/>
        </p:blipFill>
        <p:spPr>
          <a:xfrm>
            <a:off x="6095880" y="167652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emi-related link</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rPr>
              <a:t>http://www.youtube.com/watch?v=iTDhoAvvta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n committed suicide because of business losing out on mone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as and Sampling</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ensus, not sampl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ery accurat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ery large age range -&gt; bia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tired people and teens -&gt; bia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formation availabl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riation of age group siz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SA or other developed countrie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440" y="51264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One-Variable Analysis: Unemployment</a:t>
            </a:r>
            <a:endParaRPr b="0" lang="en-US" sz="3200" spc="-1" strike="noStrike">
              <a:solidFill>
                <a:srgbClr val="c1eeff"/>
              </a:solidFill>
              <a:latin typeface="Consolas"/>
            </a:endParaRPr>
          </a:p>
        </p:txBody>
      </p:sp>
      <p:pic>
        <p:nvPicPr>
          <p:cNvPr id="393" name="Content Placeholder 3" descr=""/>
          <p:cNvPicPr/>
          <p:nvPr/>
        </p:nvPicPr>
        <p:blipFill>
          <a:blip r:embed="rId1"/>
          <a:stretch/>
        </p:blipFill>
        <p:spPr>
          <a:xfrm>
            <a:off x="987480" y="1139760"/>
            <a:ext cx="7705800" cy="4730760"/>
          </a:xfrm>
          <a:prstGeom prst="rect">
            <a:avLst/>
          </a:prstGeom>
          <a:ln w="0">
            <a:noFill/>
          </a:ln>
        </p:spPr>
      </p:pic>
      <p:sp>
        <p:nvSpPr>
          <p:cNvPr id="394" name="TextBox 4"/>
          <p:cNvSpPr/>
          <p:nvPr/>
        </p:nvSpPr>
        <p:spPr>
          <a:xfrm>
            <a:off x="2743200" y="6172200"/>
            <a:ext cx="266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Mean – 138.9</a:t>
            </a:r>
            <a:endParaRPr b="0" lang="en-US" sz="1800" spc="-1" strike="noStrike">
              <a:solidFill>
                <a:srgbClr val="ffffff"/>
              </a:solidFill>
              <a:latin typeface="Corbel"/>
            </a:endParaRPr>
          </a:p>
        </p:txBody>
      </p:sp>
      <p:sp>
        <p:nvSpPr>
          <p:cNvPr id="395" name="TextBox 5"/>
          <p:cNvSpPr/>
          <p:nvPr/>
        </p:nvSpPr>
        <p:spPr>
          <a:xfrm>
            <a:off x="5486400" y="624852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tandard Deviation – 57.9</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07:28:31Z</dcterms:created>
  <dc:creator>Nguyen</dc:creator>
  <dc:description/>
  <dc:language>en-US</dc:language>
  <cp:lastModifiedBy>Nguyen</cp:lastModifiedBy>
  <dcterms:modified xsi:type="dcterms:W3CDTF">2011-01-19T08:11:51Z</dcterms:modified>
  <cp:revision>6</cp:revision>
  <dc:subject/>
  <dc:title>Unemployed vs Suicide</dc:title>
</cp:coreProperties>
</file>